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4CA-C0A4-4E1A-938F-89D5AB38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131-1525-4B22-9840-DD7E6E6D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489-B152-4D66-8D59-079425E6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253-2ABF-4CA2-BDE3-F89DCA2A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AC8-D725-4AE1-9691-18F3156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0BD-8BB1-4E93-B652-B6D4B029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719-BAAF-48DD-A20C-A9F4415F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FDB-BD77-4F3B-8A62-47A4B70A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42A-1268-4AEA-8956-7DDAE008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074-0704-4B17-B4FF-0B880FE9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B9B-3F6B-4938-BF5B-64C89D78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089-A38C-4065-93F6-34F30C8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2780-5348-4B68-B0E8-2D84850F8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3040" y="1066680"/>
            <a:ext cx="4132440" cy="5432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91440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3000" y="1046160"/>
            <a:ext cx="3483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cell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last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1080" y="1066680"/>
            <a:ext cx="5314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 (they m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own foo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14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99072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ubes for moving food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wor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416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3400" y="228600"/>
            <a:ext cx="19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8640" y="866880"/>
            <a:ext cx="7686720" cy="512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" y="19512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erw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09680" y="-38088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3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533520"/>
            <a:ext cx="6781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ubes to move food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h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9760" y="533520"/>
            <a:ext cx="14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228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80" y="304920"/>
            <a:ext cx="144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9:37:49Z</dcterms:created>
  <dc:creator>Littleton Public Schools</dc:creator>
  <dc:description/>
  <dc:language>en-US</dc:language>
  <cp:lastModifiedBy>Jean Kavanagh</cp:lastModifiedBy>
  <dcterms:modified xsi:type="dcterms:W3CDTF">2008-01-09T19:36:45Z</dcterms:modified>
  <cp:revision>7</cp:revision>
  <dc:subject/>
  <dc:title>Plant Kingdom</dc:title>
</cp:coreProperties>
</file>